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EC5C-B6A1-472D-930E-A5964ECB5E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0174-A266-4496-B0A5-D46302DC3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FA73-5E5F-4B68-9603-3662C6B18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A8F7-4709-43AB-BEAC-40FC6A872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D708C-8EAB-4005-B752-BF5E59D5F0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E26AB-B10B-4D70-A5FC-9616378E26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215B-1303-4E3E-9BD5-5758C3D00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D3F9-5B3D-43C8-998B-FEFB4DB27E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F3837-54DC-41F0-9F38-B86761858F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55C82-8F04-4B46-A244-59EBDC25DB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4B43-BCEE-40B6-8554-F57D3B17C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5572F-19FE-46CA-AE94-8EAC2B66C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DFEAF-783D-4260-B29F-4C9DEA440E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2B753-AAA9-40F2-A1DC-6FB4473EE94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87099-9C15-4B7C-BD72-BF36169018B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2A625-E0C0-450B-806A-0369EB73021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5DF7-E970-40F6-BE18-3902E8A02C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1F208-F2CF-42FA-9389-BC7BC0A75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6D185-0E45-418E-A30D-9DF1D8C30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60F19-A66F-4EAA-8662-514839F1F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6B5D-2E12-47BE-8E0B-75D31207B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F7965-B771-4669-A485-6AE7632B7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B78B-124D-4DBA-A93C-C6FB652F5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26F8-CFF6-48C7-B6EB-15E4843DD3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EC5696-89F8-4F7F-9922-1A063E516AD5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00DC8-EF8B-4BAD-9366-0F65BB1D2230}" type="slidenum">
              <a:rPr b="0" lang="ru-RU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16360" y="1523880"/>
            <a:ext cx="3745080" cy="22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600" spc="-1" strike="noStrike">
                <a:solidFill>
                  <a:srgbClr val="ff0000"/>
                </a:solidFill>
                <a:latin typeface="Garamond"/>
              </a:rPr>
              <a:t>Дмитрий </a:t>
            </a:r>
            <a:br>
              <a:rPr sz="4600"/>
            </a:br>
            <a:r>
              <a:rPr b="0" i="1" lang="ru-RU" sz="4600" spc="-1" strike="noStrike">
                <a:solidFill>
                  <a:srgbClr val="ff0000"/>
                </a:solidFill>
                <a:latin typeface="Garamond"/>
              </a:rPr>
              <a:t>Иванович </a:t>
            </a:r>
            <a:br>
              <a:rPr sz="4600"/>
            </a:br>
            <a:r>
              <a:rPr b="0" i="1" lang="ru-RU" sz="4600" spc="-1" strike="noStrike">
                <a:solidFill>
                  <a:srgbClr val="ff0000"/>
                </a:solidFill>
                <a:latin typeface="Garamond"/>
              </a:rPr>
              <a:t>Менделеев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4880" y="4149720"/>
            <a:ext cx="45370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60360" y="144360"/>
            <a:ext cx="4788000" cy="6589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311800" y="4029120"/>
            <a:ext cx="3398760" cy="12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330000"/>
                </a:solidFill>
                <a:latin typeface="Arial"/>
              </a:rPr>
              <a:t>27 января (8 февраля) 1834 г.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200" spc="-1" strike="noStrike">
                <a:solidFill>
                  <a:srgbClr val="330000"/>
                </a:solidFill>
                <a:latin typeface="Arial"/>
              </a:rPr>
              <a:t>20 января (2 февраля) 1907 г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11120" y="20628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66ff"/>
                </a:solidFill>
                <a:latin typeface="Garamond"/>
              </a:rPr>
              <a:t>Периодическая таблица Менделе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6560" y="13460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9933"/>
                </a:solidFill>
                <a:latin typeface="Arial"/>
              </a:rPr>
              <a:t>Хотя вид таблицы отличался от принятого в настоящее время, но она отвечала главному правилу, сформированному ее автором: «измеримые химические и физические свойства элемента и его соединений периодически зависят от атомного веса элементов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9933"/>
                </a:solidFill>
                <a:latin typeface="Arial"/>
              </a:rPr>
              <a:t>Уже в августе 1869 г. Д.И. Менделеев придал таблице тот вид, к которому мы привыкли; известные в то время элементы были размещены так же, как  и сейча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349360" y="3862440"/>
            <a:ext cx="3986280" cy="26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60360" y="287280"/>
            <a:ext cx="8229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ff3399"/>
                </a:solidFill>
                <a:latin typeface="Arial"/>
              </a:rPr>
              <a:t>Периодическая система позволяла предсказывать существование новых, еще неизвестных науке элементов, и с большой точностью описывать их свойств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ff3399"/>
                </a:solidFill>
                <a:latin typeface="Arial"/>
              </a:rPr>
              <a:t>Периодическая система Менделеева стала путеводной картой при изучении хим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168720" y="3979800"/>
            <a:ext cx="5591160" cy="278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0360" y="216000"/>
            <a:ext cx="41036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0000"/>
                </a:solidFill>
                <a:latin typeface="Arial"/>
              </a:rPr>
              <a:t>Химический элемент менделеевий, открытый в 1955 году искусственным путём, получил название в честь создателя периодической таблиц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330000"/>
                </a:solidFill>
                <a:latin typeface="Arial"/>
              </a:rPr>
              <a:t>Менделеев был членом более 90 академий наук, научных обществ, университетов разных стран. Будучи ученым энциклопедических знаний и уникального кругозора, Дмитрий Иванович стоял в одном ряду с величайшими естествоиспытателями всех времен. В 1964 году имя Менделеева было занесено на доску почета Бриджпортского университета в США наряду с именами Эвклида, Архимеда, Коперника, Галилея, Ньютона и Лавуазье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176720" y="216000"/>
            <a:ext cx="446400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57560" y="360360"/>
            <a:ext cx="465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66cc"/>
                </a:solidFill>
                <a:latin typeface="Garamond"/>
              </a:rPr>
              <a:t>Однажды в холодный февральский день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3280" y="360360"/>
            <a:ext cx="3141720" cy="3887640"/>
          </a:xfrm>
          <a:prstGeom prst="rect">
            <a:avLst/>
          </a:prstGeom>
          <a:ln w="101520">
            <a:solidFill>
              <a:srgbClr val="9966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3419640" y="1700280"/>
            <a:ext cx="5256000" cy="38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ff3399"/>
                </a:solidFill>
                <a:latin typeface="Arial"/>
              </a:rPr>
              <a:t>Д. И. Менделеев родился 8 февраля 1834 года в городе Тобольске и был последним, семнадцатым по счету ребенком в семье директора Тобольской гимназии Ивана Павловича Менделеева и его жены Марии Дмитриевн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93720" y="936720"/>
            <a:ext cx="5508720" cy="4824360"/>
          </a:xfrm>
          <a:prstGeom prst="rect">
            <a:avLst/>
          </a:prstGeom>
          <a:ln cap="sq" w="73080">
            <a:solidFill>
              <a:srgbClr val="cc99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1141560" y="584676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1900"/>
                </a:solidFill>
                <a:uFillTx/>
                <a:latin typeface="Arial"/>
              </a:rPr>
              <a:t>Вид на Тобольск с колокольни Преображенской церк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000" spc="-1" strike="noStrike" u="sng">
                <a:solidFill>
                  <a:srgbClr val="661900"/>
                </a:solidFill>
                <a:uFillTx/>
                <a:latin typeface="Arial"/>
              </a:rPr>
              <a:t>Фотография начала XX ве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1600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993366"/>
                </a:solidFill>
                <a:latin typeface="Garamond"/>
              </a:rPr>
              <a:t>Родина Д.И. Менделеев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76360" y="511164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cc0066"/>
                </a:solidFill>
                <a:latin typeface="Garamond"/>
              </a:rPr>
              <a:t>Здесь учился Д.И. Менделеев в студенческие 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20720" y="290520"/>
            <a:ext cx="7488360" cy="4762440"/>
          </a:xfrm>
          <a:prstGeom prst="rect">
            <a:avLst/>
          </a:prstGeom>
          <a:ln w="73080">
            <a:solidFill>
              <a:srgbClr val="cc9900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39480" y="5688000"/>
            <a:ext cx="78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9900"/>
                </a:solidFill>
                <a:latin typeface="Arial"/>
              </a:rPr>
              <a:t>Педагогический институт, место учебы и работы Д.И. Менделеева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7280" y="0"/>
            <a:ext cx="885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000080"/>
                </a:solidFill>
                <a:latin typeface="Garamond"/>
              </a:rPr>
              <a:t>Научная биография Д.И. Менделе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17480" y="1343160"/>
            <a:ext cx="7994880" cy="26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"Ближайший предмет химии составляет изучение однородных веществ, из сложения которых составлены все тела мира, превращений их друг в друга и явлений, сопровождающих такие превращения"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.И. Менделе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6699"/>
                </a:solidFill>
                <a:latin typeface="Garamond"/>
              </a:rPr>
              <a:t>Менделеев – ученый и преподавате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268280"/>
            <a:ext cx="4608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ff9900"/>
                </a:solidFill>
                <a:latin typeface="Arial"/>
              </a:rPr>
              <a:t>С 1857 по 1890 гг. преподавал химию в Петербургском университет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3300"/>
                </a:solidFill>
                <a:latin typeface="Arial"/>
              </a:rPr>
              <a:t>В 1856 защитил в Петербургском университете магистерскую диссертац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cc"/>
                </a:solidFill>
                <a:latin typeface="Arial"/>
              </a:rPr>
              <a:t>С 1857 в качестве доцента читал там же курс органической хими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ccff"/>
                </a:solidFill>
                <a:latin typeface="Arial"/>
              </a:rPr>
              <a:t>В 1890 г. вынужден был покинуть университет из-за конфликта с тогдашним министром просвеще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5229360"/>
            <a:ext cx="3635280" cy="792000"/>
          </a:xfrm>
          <a:prstGeom prst="rect">
            <a:avLst/>
          </a:prstGeom>
          <a:noFill/>
          <a:ln cap="sq" w="73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Портрет Д. И. Менделе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9999"/>
                </a:solidFill>
                <a:latin typeface="Arial"/>
              </a:rPr>
              <a:t>(188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543640" y="936720"/>
            <a:ext cx="3240000" cy="4157640"/>
          </a:xfrm>
          <a:prstGeom prst="rect">
            <a:avLst/>
          </a:prstGeom>
          <a:ln cap="sq" w="73080">
            <a:solidFill>
              <a:srgbClr val="cc9900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60360" y="21600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200" spc="-1" strike="noStrike">
                <a:solidFill>
                  <a:srgbClr val="cc66ff"/>
                </a:solidFill>
                <a:latin typeface="Garamond"/>
              </a:rPr>
              <a:t>Менделеев - </a:t>
            </a:r>
            <a:r>
              <a:rPr b="1" i="1" lang="ru-RU" sz="3600" spc="-1" strike="noStrike">
                <a:solidFill>
                  <a:srgbClr val="cc66ff"/>
                </a:solidFill>
                <a:latin typeface="Garamond"/>
              </a:rPr>
              <a:t>воздухоплава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35640" y="1224000"/>
            <a:ext cx="45352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1887 Менделеев должен был совершить подъем на воздушном шаре для наблюдения солнечного затмения, а также изучения верхних слоев атмосфе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днако перед стартом начался дождь, намокший шар не мог подняться с двумя пассажирами. Тогда Менделеев высадил летчика и полетел один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920" y="1224000"/>
            <a:ext cx="4286160" cy="55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ервый русский учебник по химии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268280"/>
            <a:ext cx="4762440" cy="35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861 г. Дмитрий Иванович публикует первый русский учебник «Органической химии», написанный в короткий срок – за несколько неде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него автор был удостоен Первой Демидовской премии – 1428 руб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5273640"/>
            <a:ext cx="763272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«…Основы химии» – любимое дитя мое». В них образ мой, мой опыт педагога и мои задушевные мысли» - писал Д. И. Менделе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148360" y="1268280"/>
            <a:ext cx="3600360" cy="26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92360" y="0"/>
            <a:ext cx="5678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aramond"/>
              </a:rPr>
              <a:t>Самое важное открыт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160" y="477720"/>
            <a:ext cx="8664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ff420e"/>
                </a:solidFill>
                <a:latin typeface="Garamond"/>
              </a:rPr>
              <a:t>Маленькая история о большом открыт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47640" y="1295280"/>
            <a:ext cx="802008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По словам Менделеева, «все в голове сложилось, а выразить таблицей не мог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Крайняя усталость свалила с ног, он лег и сразу заснул. «Вижу во сне таблицу, где все элементы расставлены, как нужно. Проснулся, тотчас записал на клочке бумаги, - только в одном месте оказалась нужной поправк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93300"/>
                </a:solidFill>
                <a:latin typeface="Arial"/>
              </a:rPr>
              <a:t>Трое суток, почти без отдыха, проработал он; интуитивно чувствовавшаяся закономерность в таблицу не складывала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36720" y="3887640"/>
            <a:ext cx="6777000" cy="295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21:58:33Z</dcterms:created>
  <dc:creator>Korostsleva NS</dc:creator>
  <dc:description/>
  <dc:language>en-US</dc:language>
  <cp:lastModifiedBy/>
  <dcterms:modified xsi:type="dcterms:W3CDTF">2019-02-05T17:15:39Z</dcterms:modified>
  <cp:revision>256</cp:revision>
  <dc:subject/>
  <dc:title>Дмитрий Иванович Менделеев</dc:title>
</cp:coreProperties>
</file>